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69F5-0D20-4609-8C20-4054AE81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B213-B5D1-413C-9C5D-5A8D1C7F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1AD5-A487-4F18-8341-89DF640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35C7-3E34-4E8A-9665-F479047E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70F7-AC2A-488D-B9DE-6021A1BD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E0D-6870-4A9A-9365-20D0A53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AB0A-70A4-4DCE-8F3C-0DAF0202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C939-F5A0-4302-B57B-B0F0A02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38F9-ACF5-4125-A476-F0D363C5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132-BD16-4F99-B6FC-66299EAD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BAFD-A8E8-4F18-B93A-0D17B6B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1EE7-DC0F-4F9C-AC62-C09E908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3EA8-A3E3-4707-9527-9F1B35E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1882-729F-45DF-882F-730B0F9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4AD7-BCF9-457B-9E2B-D252FA8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64D-DA4E-47E8-933B-938CCAFA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FA0A-17BB-46DC-ADB7-1BB7AECB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4010-7682-470F-895E-7319F109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EA1B-F0E0-4AE7-A6E2-70DEC5F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5176-556D-4AAC-A600-CE3335C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51B2-B953-4968-9B39-636EAB80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979C-ADB3-43F3-8BBB-C23E595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F537-6503-4F05-A37D-EB8D69D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4BBC-A2F4-4F43-83D5-968D8C1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DEC3-A9A1-4FEA-9434-E31ACB13903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A6D7-48BD-4810-97B4-2EC206639C1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49644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6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чакаме Те, Божи Си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сърце Те люб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 наш Си Ти еди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дай да Те изгуб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Кой вярва в Теб, той има хляб,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овен хляб небес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Те хвалим с пес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чакаме с търпе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ред скърби и невол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осиш ни спасени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 готвиш и престол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Ти всеки ден, о, Спас блажен,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яваш ни живо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 Ти Си и имо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чакаме Те, Спас блаж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далечно врем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Тебе в славний онзи д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рона всек ще снем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О, щастие там, де Ти Си сам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ас в дворове небес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Теб ще пеем пес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42:12Z</dcterms:modified>
  <cp:revision>63</cp:revision>
  <dc:subject/>
  <dc:title>Slide 1</dc:title>
</cp:coreProperties>
</file>